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DE02-9F8E-47D7-BC1F-99B1B82D0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D0C1-E09B-482B-B011-F5031A928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054B-C8EA-4B9E-9588-A36A7C20E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B791-EB1E-46FA-8417-A1E2C02D7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CA87-9461-4912-B9B5-A92ABE28C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C1D6-A8C1-4B80-9EB5-0C7274705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2A16-C46B-4494-A8F5-F35A5C1235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05F1-E082-4E4A-B889-2BA9188595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D83E-6311-41DE-8A82-6960200F3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C1E0-2480-426B-A3FC-FED9A964A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071C-E43C-4529-990D-533CE53B5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FE34-47CA-4DC2-9472-22AAB7680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B95F-1864-4EAB-870A-80F7D2C3D1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2845-0683-47ED-B233-A0FFE671A2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7C40-F463-4BBA-92E0-FFDF6DE099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1656-D7D5-4218-AA4B-348EA0621B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3432240" y="465120"/>
            <a:ext cx="3097080" cy="2322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5305-8328-4CED-B2E7-01A05B7A5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53C0-71E2-403E-A8EF-2EACC7B747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7AA5-357E-43A0-8514-063965BF66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904C-DBDC-47A4-A7BE-C7A6C470FF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6E73-2049-494D-9500-DAC84DFD8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254F-3F3C-46D1-A43B-889C0FDBF4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A127-9ED9-41D1-9694-F5107D49D5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1112-F321-4CB1-9C8A-67F803E1AF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8805-BA4A-43A6-B54D-5D66584B0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3F38-3A86-4F24-93B8-F0FDB8B09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1D0F-D763-47A1-AA8E-9B61EE82E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2996-40F1-4601-B2B8-09119CEB4C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4C9E-B8A0-4741-A48A-91C8452A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49EC-0899-44E4-ADF8-665DA6DF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44C1-FEBB-47F6-A31D-B75A80BC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E891-8526-468A-9DBD-EE262320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931C-E498-483B-83AA-48DA285C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1906-AEF9-4406-8787-38D518AA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3B02-5B04-42CD-9A3A-0EB17696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076A-B414-4ECB-8DFE-F56E9090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2304-9783-4980-BBB0-9E824C18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0140-147E-455E-A68A-FCD01DCC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1862-9C25-4573-A2D8-D303A71B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9278-307E-4DFD-B57D-439D949C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70BD-0EEB-4950-81DD-52FE6C3B0F4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të e Qarkullimit të Parave Kriminale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sioni 1.4.2/Ora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3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Mushkave të Par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pentenca procedurale janë të disponueshme / kanë lidhje me identifikimin / aktivitetin e mushkave të par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19159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RANSFERTAT NDËRKOMBËT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ertat Ndërkombët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erimet ndërkombëtare të llojeve të ndryshme përdoren nga kriminelët për ta bërë më të vështirë gjurmimin e të ardhurave nga kri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ertat ndërkombëtare mund të realizohen me anë të llogarive bankare, monedhave virtuale, shërbimeve të pagesave në Internet, shërbimeve të remitancave, et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ertat Ndërkombët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sfida lindin në hetimin, kontrollin, sekuestrimin dhe konfiskimin e fondeve kriminale kur fondet janë transferuar ndërkombëtarish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Transfertave Ndërkombët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minelët marrin kontrollin e (për shembull) llogarisë bankare të kompromentuar të klient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ndet transferohen tek mushkat (ndërmjetësit) në të njëjtin juridik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hkat (ndërmjetësit) transferojnë fondet me transfertë bankare ndërkombëtare tek një person juridik ose fizik në një juridiksion tjetë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6560" y="112536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Transfertave Ndërkombët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transfertave ndërkombët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Transfertave Ndërkombët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I: Cilat janë kompetencat procedural janë në dispozicion / kanë lidhje me identifikimin / përdorimin e transfertave ndërkombët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NEDHAT VIRTU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dhat virtuale dhe paratë elektron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29970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monedha virtuale dhe para elektronike njih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inolog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nedhë virtua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jë monedhë virtuale është një përfaqësim digjital i vlerës që mund të tregtohet në Internet dhe funksionon si (1) mjet shkëmbimi; (2) njësi e llogarisë; dhe / ose (3) një aset me vlerë, por nuk ka statusin e parave zyrtare në asnjë juridik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atë elektronik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onedha virtuale dallon nga paraja elektronike, e cila është një përfaqësim digjital i monedhës fiat që përdoret për të transferuar në mënyrë elektronike vlera të denominuara në monedhën fiat. Paraja elektronike është një mekanizëm transferimi digjital për monedhën fiat – d.m.th transferon në mënyrë elektronike vlerën që ka statusin e monedhës së ligjsh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nedha digjita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onedha digjitale është një përfaqësim digjital ose i monedhës virtuale (jo-fiat) ose e parave elektronike (fia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ktivat e Sesio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pjegoni tipologjitë e qarkullimit të parave kriminale të përdorimit të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hkave (ndërmjetësve) të Par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tave Ndërkombët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dhave Virtu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dhat virtulae dhe paratë elektron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 mendoni se është rëndësia e shprehjes "përfaqësim digjital" në përkufizimet e mësipër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tegorizimi i Monedhave Virtu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 konvertuesh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jë monedhë virtuale e konvertueshme ka vlerë ekuivalente në monedhën reale dhe mund të shkëmbehet për valutë reale. Shembuj: Bitcoin, Second Life Linden Dollars, webMone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 pa konvertuesh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jë monedhë virtuale e pa konvertueshme ka për qëllim të jetë specifike për një fushë ose botë të veçantë virtuale, dhe sipas rregullave që rregullojnë përdorimin e saj nuk mund të shkëmbehet me valutë fiat. Shembuj: Q Coins, World of Warcraft Gol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 centralizu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onedhat virtuale të centralizuara kanë një autoritet të vetëm administrativ (p.sh. një palë të tretë) që kontrollon sistemin. Administratori lëshon monedhën, përcakton rregullat për përdorimin e saj, mban një regjistër qendror të pagesave dhe ka autorizim për të riblerë monedhën. Shembuj: Linden Dollars, WebMoney, World of Warcraft Gol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 decentralizu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onedhat virtuale të decentralizuara janë monedha virtuale shpërndahen bazuar në matematikë, nga një përdorues tek tjetri, që nuk kanë autoritet qendror administrimi, pa monitorim qendror dhe pa mbikëqyrje. Shembuj: Bitcoin, LiteCoin, Ripp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st Praktik: 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itcoin është një monedhë virtuale e decentralizuar dhe e konvertueshm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nsaksionet bëhen ndërmjet përdoruesve pa ndërmjetë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nsaksionet verifikohen duke përdorur një regjistër publik të shpërndarë, të quajtur blockchai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ërkimi për Bitcoin është procesi përmes të cilit përdoruesit ofrojnë fuqinë e tyre informatike për të verifikuar dhe regjistruar transaksionet me bitcoin në regjistrin blockchain. Për këtë, përdoruesit marrin një shpërblim me bitcoins të sapo krijuar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st Praktik: 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rakteristik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ksionet globale të mundsh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ksione virtualisht të menjëhershme (rreth 10 minuta deri sa të konfirmohet transaksioni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ksionet kryhen ndërmjet ID-ve anonime (portofolet digjital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rifa të ulëta (ose zero) për transaksio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ksionet nuk janë të kthyesh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2" descr="MC900434845"/>
          <p:cNvPicPr/>
          <p:nvPr/>
        </p:nvPicPr>
        <p:blipFill>
          <a:blip r:embed="rId1"/>
          <a:stretch/>
        </p:blipFill>
        <p:spPr>
          <a:xfrm>
            <a:off x="5715000" y="2008080"/>
            <a:ext cx="1612800" cy="1613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MP900402149"/>
          <p:cNvPicPr/>
          <p:nvPr/>
        </p:nvPicPr>
        <p:blipFill>
          <a:blip r:embed="rId2"/>
          <a:stretch/>
        </p:blipFill>
        <p:spPr>
          <a:xfrm>
            <a:off x="914400" y="2160720"/>
            <a:ext cx="1447920" cy="1301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pc"/>
          <p:cNvPicPr/>
          <p:nvPr/>
        </p:nvPicPr>
        <p:blipFill>
          <a:blip r:embed="rId3"/>
          <a:stretch/>
        </p:blipFill>
        <p:spPr>
          <a:xfrm>
            <a:off x="3581280" y="3760920"/>
            <a:ext cx="125100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6"/>
          <p:cNvSpPr/>
          <p:nvPr/>
        </p:nvSpPr>
        <p:spPr>
          <a:xfrm>
            <a:off x="685800" y="3456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Kompjuteri i Klient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5595480" y="3532320"/>
            <a:ext cx="27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rtofoli Digjital për Bitco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3458160" y="505620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frastruktura C&amp;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Line 20"/>
          <p:cNvSpPr/>
          <p:nvPr/>
        </p:nvSpPr>
        <p:spPr>
          <a:xfrm>
            <a:off x="2362320" y="277020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21"/>
          <p:cNvSpPr/>
          <p:nvPr/>
        </p:nvSpPr>
        <p:spPr>
          <a:xfrm flipH="1" flipV="1">
            <a:off x="1587240" y="3912840"/>
            <a:ext cx="22222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2286000" y="3836880"/>
            <a:ext cx="15238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23"/>
          <p:cNvSpPr/>
          <p:nvPr/>
        </p:nvSpPr>
        <p:spPr>
          <a:xfrm flipV="1">
            <a:off x="4800600" y="3912840"/>
            <a:ext cx="8380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24"/>
          <p:cNvSpPr/>
          <p:nvPr/>
        </p:nvSpPr>
        <p:spPr>
          <a:xfrm>
            <a:off x="6400800" y="39895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6" descr="MC900139499"/>
          <p:cNvPicPr/>
          <p:nvPr/>
        </p:nvPicPr>
        <p:blipFill>
          <a:blip r:embed="rId4"/>
          <a:stretch/>
        </p:blipFill>
        <p:spPr>
          <a:xfrm>
            <a:off x="7238880" y="4903920"/>
            <a:ext cx="1320840" cy="1371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7" descr="MC900445014"/>
          <p:cNvPicPr/>
          <p:nvPr/>
        </p:nvPicPr>
        <p:blipFill>
          <a:blip r:embed="rId5"/>
          <a:stretch/>
        </p:blipFill>
        <p:spPr>
          <a:xfrm>
            <a:off x="1143000" y="2160720"/>
            <a:ext cx="941400" cy="1295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8" descr="robber_clipart"/>
          <p:cNvPicPr/>
          <p:nvPr/>
        </p:nvPicPr>
        <p:blipFill>
          <a:blip r:embed="rId6"/>
          <a:stretch/>
        </p:blipFill>
        <p:spPr>
          <a:xfrm>
            <a:off x="3851280" y="5594400"/>
            <a:ext cx="853920" cy="12193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29"/>
          <p:cNvSpPr/>
          <p:nvPr/>
        </p:nvSpPr>
        <p:spPr>
          <a:xfrm>
            <a:off x="7551000" y="6199200"/>
            <a:ext cx="14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ushk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ndërmjetës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0"/>
          <p:cNvSpPr/>
          <p:nvPr/>
        </p:nvSpPr>
        <p:spPr>
          <a:xfrm>
            <a:off x="2555280" y="609120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Keqbërë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31"/>
          <p:cNvSpPr/>
          <p:nvPr/>
        </p:nvSpPr>
        <p:spPr>
          <a:xfrm flipH="1">
            <a:off x="4787640" y="5970600"/>
            <a:ext cx="2755800" cy="27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ërdorimi Kriminal i Monedhës Virtuale: Programi Ransom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kosistemi i Monedhës Virtu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këmbimi i Monedhave Virtua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dministratori i Monedhave Virtua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ërdoruesi/pronar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ëshuesi i monedhë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rtofoli i Monedhës Virtua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fruesi i portofolit digjit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egtarë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te të tjera (zhvilluesit e programeve kompjuterike etj.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dërfaqja midis monedhave virtuale dhe sistemit tradicional financi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mendo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MONEDHëS VIRTU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ndet e fituara në mënyrë kriminale konvertohen në monedhën virtual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ga ana tjetër, shërbimet kriminale paguhen në monedhën virtua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ga ana tjetër, fondet nxirren nga viktimat në formën e monedhës virtua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nedha virtuale tregtohet ose shkëmbehet për monedhën fia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ër shkak të rregullimit jo konsistent të valutave virtuale, shkëmbimet virtuale të monedhave në të gjitha juridiksionet mund të mos kenë të dhëna adekuate të klientëve dhe / ose detyrime raportimi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Monedhave Virtu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3284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monedhave virtua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Monedhave Virtu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364464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janë kompetencat procedurale që janë të disponueshme / kanë lidhje me identifikimin / përdorimin e monedhave virtua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19159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USHKAT E PARAV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grirja, Sekuestrimi dhe Konfiskimi i Monedhës Virtu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ngrirjen, sekuestrimin dhe konfiskimin e fondeve të mbajtura nga një ofrues i shërbimeve të pagesave në intern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ërmbledh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pjegoni tipologjitë e qarkullimit të parave kriminale të përdorimit të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hkave (ndërmjetësve) të par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tat ndërkombët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dhat virtu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>
            <a:off x="3451320" y="4508640"/>
            <a:ext cx="224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Pyetje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shkat e Par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ushkat e parave (ndërmjetësit) janë një komponent i rëndësishëm i shumë skemave të pastrimit të parave onlin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ta rekrutohen me një shumëllojshmëri teknikash, që mund të kategorizohen gjerësisht në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hka të vullnetshme, që rekrutohen duke e ditur paraprakisht se po marrin pjesë në aktivitet të paligjshë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hka të pa vullnetshme, që rekrutohen me mashtrim, si p.sh. me anë të një oferte punësimi të rre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shkat e vullnetshme vs. të pa vullnetshm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924280"/>
            <a:ext cx="822960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mendo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Mushkave të Par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ët rekrutohen ose me dëshirë ose pa dëshirë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ndet transferohen në llogarinë bankare të mushkë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ë pas mushka (ndërmjetësi) ose i tërheq fondet në kesh ose i transferon tek një llogari tjetër (ose jashtë shteti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hka (ndërmjetësi) mban një komi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lera e arrestimit /akuzimit të mushka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mendo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Çfarë është një mushkë paras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SKUTIM: Cili është problemi me mushkat e par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Mushkave të Par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mushkave të par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JB</cp:lastModifiedBy>
  <cp:lastPrinted>2016-05-18T07:38:13Z</cp:lastPrinted>
  <dcterms:modified xsi:type="dcterms:W3CDTF">2017-10-08T07:26:13Z</dcterms:modified>
  <cp:revision>358</cp:revision>
  <dc:subject/>
  <dc:title>PowerPoint Presentation</dc:title>
</cp:coreProperties>
</file>